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87C-CD3E-41EA-B5A1-FFB66B73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B47-F747-4BDA-A24F-0C1325E5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6F19-AEEE-4002-9065-A45D7E09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5BFA-33D8-4B46-A0D2-3ECDE6C6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316-7FB7-4527-94F0-B5162B91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059C-1670-4A12-9DBF-42F25D43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C1FE-3C17-42CD-9C46-34A8CF88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95A-B74A-44FB-AE7D-54C2952C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B8FE-7BC8-476B-AA02-C5C2A978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416-68C5-410E-8F20-CA51093B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8701-6231-4D6E-9931-8505C79D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36F-C6E3-4F66-9EBC-39EEF5AC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FD00-65D9-496A-8816-EF1376506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alibri"/>
              </a:rPr>
              <a:t>Sara Houthoofd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3886200" y="2286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971800" y="10666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 Greek City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971800" y="38088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143000" y="1066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 study of wisdom and the right way to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03 0.00139 C 0.13403 -0.08784 0.08403 -0.16504 0.01701 -0.17036 C -0.04705 -0.17706 -0.10695 -0.11719 -0.11094 -0.03051 C -0.11597 0.04924 -0.07396 0.12391 -0.01389 0.12922 C 0.04097 0.13315 0.09305 0.08392 0.09705 0.00948 C 0.10104 -0.05848 0.06597 -0.12251 0.0151 -0.12783 C -0.03195 -0.13176 -0.07604 -0.09038 -0.07899 -0.02797 C -0.08195 0.02798 -0.05399 0.08253 -0.01198 0.0853 C 0.02604 0.08923 0.06198 0.05733 0.0651 0.00671 C 0.06701 -0.0386 0.04601 -0.08275 0.01302 -0.08506 C -0.01597 -0.08784 -0.04497 -0.0638 -0.04705 -0.02519 C -0.04896 0.0081 -0.03403 0.04 -0.0099 0.04277 C 0.01007 0.04531 0.03108 0.03052 0.03212 0.00417 C 0.03403 -0.01733 0.02604 -0.03999 0.01111 -0.04253 C -0.00104 -0.04253 -0.01302 -0.03721 -0.01493 -0.02265 C -0.01597 -0.01317 -0.01389 -0.00393 -0.00799 -4.68331E-006 C -0.00504 0.00139 -0.00295 0.00139 1.11111E-006 -4.68331E-006 E">
                                      <p:cBhvr>
                                        <p:cTn id="11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743200" y="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0" y="838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ea of land nearly surrounded by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981080" y="30492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1371600" y="11430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war between Athens and Spa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3124080" y="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0" y="838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ind of government that is run by a small group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3657600" y="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12952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eltered place along a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acropoli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220968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0" y="25909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place where Greeks meet 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t3.gstatic.com/images?q=tbn:ANd9GcSKLUN36h8nJvKJbzSXCNtaApVjNNhEBvYORrMNePNv9-OrWMAZ"/>
          <p:cNvPicPr/>
          <p:nvPr/>
        </p:nvPicPr>
        <p:blipFill>
          <a:blip r:embed="rId1"/>
          <a:stretch/>
        </p:blipFill>
        <p:spPr>
          <a:xfrm>
            <a:off x="2057400" y="74520"/>
            <a:ext cx="6095880" cy="678348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3200400" y="30492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0" y="1219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lawmaking place where people voted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352680" y="38088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2743200" y="13716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0" y="12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A person who has certain rights and responsibilities to his or her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124080" y="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9144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group of people who lived apart from Greece but kept economic ties wit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666880" y="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3733920" y="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y hear evidence and make decisions in a court of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8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385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2590920" y="3049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219320" y="9144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 headed by one ru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5:46:19Z</dcterms:modified>
  <cp:revision>103</cp:revision>
  <dc:subject/>
  <dc:title>Ancient Greece</dc:title>
</cp:coreProperties>
</file>